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2A06-6C22-437B-ACE9-6F63FA06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D9DF-7EB4-4F29-B0C6-9F3EDE86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DD2-692E-4828-9DF1-DCA69DC8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EAE9-8B5B-4C4E-B0A0-4BA4807B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C77A-E504-4115-825D-4976D9B5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982-5945-498F-A874-A804AC3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163-6F9B-4BD8-BCAC-B99AB437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BD174-A2D6-43DE-84AE-DA8D5591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CEE-3E4E-4CDA-BC31-A0EE66DE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8E67E-EACB-470D-B4CB-2453BD42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37FD-2C0D-4845-88D5-86F231CF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654AA-5BB0-4775-9B06-F8BF0728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0F61B-FA0B-47B5-B067-0EB37F9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B0D4-80A6-4D9B-9FEA-A1EF6CD3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EC9E5-B44B-442B-AAF7-E111A9FF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BF776-4563-48AE-A77E-2C0E8AA7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50F8F-DB98-4187-A6AC-8407AD25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94E7-389A-49F8-983B-1B3DF939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5C3B-6F79-4E96-9406-1010E465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6D6-46B4-4A90-A574-2493DBD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8B65A-CE5C-4431-9770-0EBCC8AC7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50E7-4976-4F3C-B822-E4124D6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261-2974-43E2-8E10-E0C8129F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081-E962-49C2-8385-FDAE26A2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24800" y="6143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A6BF-F8CB-48F7-95DE-07C9BAD51C6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3A15-C0DA-4C59-9CB9-B59E6239785B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DAA-C87D-4D9F-B413-AE042C001077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0485-A08E-4E5D-AF1D-CA8D66AB4871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bg_1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CB95-B9B9-40E1-9DDA-2FBE9E5F9F97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hu/url?sa=i&amp;rct=j&amp;q=artisjus&amp;source=images&amp;cd=&amp;cad=rja&amp;docid=__DAyqMDy69WlM&amp;tbnid=KjuHUthWwEm0dM:&amp;ved=0CAUQjRw&amp;url=http://fidelio.hu/edu_art/hirek/atadtak_az_oktatoi_artisjusdijakat&amp;ei=mfAhUaHRGKWC4gTIl4CYAQ&amp;bvm=bv.42553238,d.bGE&amp;psig=AFQjCNHwGrTlP9n_QzgQol3qTOZpzR5qjA&amp;ust=1361265117473008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a69765"/>
                </a:solidFill>
                <a:latin typeface="Calibri"/>
                <a:ea typeface="Times New Roman"/>
              </a:rPr>
              <a:t> </a:t>
            </a:r>
            <a:r>
              <a:rPr b="1" lang="hu-HU" sz="3200" spc="-1" strike="noStrike">
                <a:solidFill>
                  <a:srgbClr val="a69765"/>
                </a:solidFill>
                <a:latin typeface="Calibri"/>
                <a:ea typeface="Arial"/>
              </a:rPr>
              <a:t>A hazai turizmus helyzete, aktuális kérdés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008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2013. március 8., Budap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900" spc="-1" strike="noStrike">
                <a:solidFill>
                  <a:srgbClr val="000000"/>
                </a:solidFill>
                <a:latin typeface="Calibri"/>
              </a:rPr>
              <a:t>Dr. Horváth Viktór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Turisztikáért felelős helyettes államtitká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Nemzetgazdasági Minisztériu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zövegdoboz 4"/>
          <p:cNvSpPr/>
          <p:nvPr/>
        </p:nvSpPr>
        <p:spPr>
          <a:xfrm>
            <a:off x="611280" y="1484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ÉP Kártyákról elköltött összegek (Mrd 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llipszis 5"/>
          <p:cNvSpPr/>
          <p:nvPr/>
        </p:nvSpPr>
        <p:spPr>
          <a:xfrm>
            <a:off x="7956720" y="907920"/>
            <a:ext cx="108108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iagram 7" descr=""/>
          <p:cNvPicPr/>
          <p:nvPr/>
        </p:nvPicPr>
        <p:blipFill>
          <a:blip r:embed="rId1"/>
          <a:stretch/>
        </p:blipFill>
        <p:spPr>
          <a:xfrm>
            <a:off x="324000" y="328680"/>
            <a:ext cx="849600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zövegdoboz 2"/>
          <p:cNvSpPr/>
          <p:nvPr/>
        </p:nvSpPr>
        <p:spPr>
          <a:xfrm>
            <a:off x="539640" y="2060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sszes feltöltés: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71,7 Mrd 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Chart 1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429760" cy="5334120"/>
          </a:xfrm>
          <a:prstGeom prst="rect">
            <a:avLst/>
          </a:prstGeom>
          <a:ln w="0">
            <a:noFill/>
          </a:ln>
        </p:spPr>
      </p:pic>
      <p:sp>
        <p:nvSpPr>
          <p:cNvPr id="242" name="Szövegdoboz 6"/>
          <p:cNvSpPr/>
          <p:nvPr/>
        </p:nvSpPr>
        <p:spPr>
          <a:xfrm>
            <a:off x="468360" y="220500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Összes feltöltés: 73,6 Mrd 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 SZÉP Kártyával kapcsolatos főbb változások 2012. november 25-t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9528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301/2012. (X.26.) Korm. rendelet a Széchenyi Pihenő Kártya kibocsátásának és felhasználásának szabályairól szóló 55/2011. (IV.12.) Korm. Rendelet módosítás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ibővült a felhasználási kör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a szabadidő alszámláról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több sporttevékenység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sporthorgászat, sportpálya bérlés, sportoktatás, uszoda bérlet)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fizethet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SZÉP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ártya birtokos halála esetén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z intézmény a hagyatéki eljárás végéig zárolja az elektronikus utalvány nyilvántartás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tehát az utalványok nem járnak le.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kibocsátó intézmények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a hagyatéki végzésben foglaltak szerint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készpénzben kifizetik az örökösökne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elhunyt SZÉP Kártyáján rendelkezésre álló összeg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ZÉP Kártya jelenlegi 1,5%-os jutalékszintjének megtartása mellett bevezettünk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gy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12 Ft-os minimum díjat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ért, hogy a jutalék legalább a kibocsátók tranzakciókkal kapcsolatos önköltségét fedez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ártyakibocsátó vállalatoknak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5 munkanapon belül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l kell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utalni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z elfogadóhelyek felé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SZÉP Kártyával fizetett összege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mi változott I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2214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nkrétan meghatároztuk az MKEH által kiszabható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bírság</a:t>
            </a: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tékét arra az esetre,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olgáltatók megsértik a rendeletben foglalta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Bírság mértéke: 50 000 Ft – 500 000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Ismételt jogsértés esetén: max. 1 000 000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3 éven belül visszaesők: a kártyakibocsátó intézmény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apon belül köteles felmondani vagy közös megegyez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lapján megszüntetni a szerződést és a szerződ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bontásától számított 1 évig nem lehet új szerződést köt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29061"/>
                </a:solidFill>
                <a:latin typeface="Calibri"/>
              </a:rPr>
              <a:t>A SZÉP Kártyával kapcsolatos főbb változások 2012. december 30-tó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9528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412/2012. (XII.28.) Korm. rendelet a Széchenyi Pihenő Kártya kibocsátásának és felhasználásának szabályairól szóló 55/2011. (IV.12.) Korm. Rendelet módosításáró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528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5 hónappal meghosszabbítottuk a kártyán lévő utalványok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felhasználási határidejé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– a juttatást követő év december 31. </a:t>
            </a:r>
            <a:r>
              <a:rPr b="1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HELYETT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a juttatást követő </a:t>
            </a:r>
            <a:r>
              <a:rPr b="1" lang="hu-HU" sz="2400" spc="-1" strike="noStrike" u="sng">
                <a:solidFill>
                  <a:srgbClr val="ff0000"/>
                </a:solidFill>
                <a:uFillTx/>
                <a:latin typeface="Calibri"/>
              </a:rPr>
              <a:t>második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 év május 3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lejárt utalványok ellenértéké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kibocsátók a lejáratot követő egy hónapon belül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</a:rPr>
              <a:t>vissza kell hogy utalják a munkáltatók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2012. december 31-én még 75 millió Ft 2011-ben juttatott utalvány volt a számlákon, ez a forrás így az idei előszezonban hasznosulh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Nemzeti tanúsító védjegy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védjegy rendszer cél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2009 októbere óta megszűnt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a szálláshelyek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kötelező minősíté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A turizmusban a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minőség iránti elvárások növekedése folyamato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, a versenyben azok a szolgáltatók tudnak megmaradni akik hosszú távon egyenletes minőséget képesek kínáln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szálláshelyen (védjegy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vendéglátásban (alapanyagok, helyi termékek, hungarikumok st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Calibri"/>
              </a:rPr>
              <a:t>programokban (nemzetközi elismerések, fesztivál minősítési progra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Nemzeti tanúsító védjegy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lkalmazása nem kizárólagos, de elősegít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jó és megbízható minőségű szolgáltatók pozitív megkülönböztetését és kiemelésé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rősíti a tudatos fogyasztói (turista) magatartást, illet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egkönnyíti a tájékozott fogyasztói döntés meghozatal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292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Vendégforgalmi adatok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(KSH adatok alapján, 2012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védjegy rendszer előnye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11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minősítés új rendszere: a szolgáltatók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önkéntesen csatlakozhatnak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nemzeti tanúsító védjegyrendszerh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előre rögzített szakmai szempontrendszer alapján a védjegyhasználat jogszerűségét és a minősítési kritériumok fennállását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endszeres időszaki ellenőrzés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garantál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édjegyhasználat és a védjegyhasználat jogszerűségének ellenőrzése során érvényesül a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zakszerűség, függetlenség és a pártatlanság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alamennyi pályázó vállalja, hogy a rögzített követelmények be nem tartása, jogszabályellenes magatartás, a szabályzatba ütköző védjegyhasználat esetén a védjegyhasználat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visszavonható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édjegyhasználatra pályázat útján jogosultságot szerzett, vagy a jogosultságot elvesztett vállalkozások neve folyamatosan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nyilváno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ágra kerü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A szálláshelyek nemzeti tanúsító védjegy rendsz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Működő nemzeti védjegy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Falusi szálláshely (320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endégszoba/vendégház (17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emping (22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Üdülőháztelep (5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zálloda (Hotelstars) (300 d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nemzeti tanúsító védjegyek tulajdonosa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Magyar Állam (joggyakorló az NGM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védjegyrendszer működtetés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szakmai szervezetek látják el a rendszer operatív működtetését, adminisztratív feladatait (honlap, tájékoztatás, minősítési kérelmek kezelése, helyszíni ellenőrzés, st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minősítési döntés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a bíráló bizottság (NGM, szakmai szervezet képviselői) javaslata alapján a turizmusért felelős minisz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29061"/>
                </a:solidFill>
                <a:latin typeface="Calibri"/>
              </a:rPr>
              <a:t>A szolgáltatások minősítő rendszerének továbbfejlesz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39640" y="2503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amarosan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ővül a minősített szolgáltatások kör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ifjúsági szálláshel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fürdő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További lehetőség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anzió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ízi megállóhely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Új irány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csatlakozás az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Európai Minőségi Díj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oz, amelynek kidolgozása az Európai Bizottság kezdeményezéseként történik. Ha a nemzeti minőségi díj feltételrendszere  megfelel az Európai Minőségi Díj kritériumainak, a tagállami minőségi díjas  szolgáltatók  automatikusan elnyerik az európai minőségi díjat 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Vendéglátással kapcsolatos aktuális ügy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Artisjus-jogdíj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8360" y="1700280"/>
            <a:ext cx="8424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„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V13” jelölésű 2013-as tervezett díjszabás véleményezési eljárása – 2012. szeptember-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Véleményezésre jogosultak: NGM, MSZÉSZ, VIMOSZ, (MKIK), (EMMI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Közös javaslat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 tényleges igénybevételhez kapcsolódó, az érintettek teherbíró képességét figyelembe vevő rendszer </a:t>
            </a:r>
            <a:r>
              <a:rPr b="0" lang="hu-HU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 szállodáknál REVPAR csoporto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  <a:ea typeface="Arial"/>
              </a:rPr>
              <a:t>Eredmény: a szállodákra vonatkozó díjmegállapítás átalakítá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szállodák szobáiban történő gépzene-felhasználásra vonatkozó díjmegállapítás a KSH által közölt kategóriánkénti szobakapacitás-kihasználtsághoz igazít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Továbblépés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 munkacsoport felállítása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 2014-es ”alternatív díjszabás” kidolgoz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2" descr="http://fidelio.hu/image.ashx?id=b01875ae-a2a4-4537-ae84-65adb449facb&amp;vid=c9629143-429a-4942-a5aa-93cd255b5ef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9960" y="3240"/>
            <a:ext cx="165600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9763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  <a:ea typeface="Arial"/>
              </a:rPr>
              <a:t>Bontott üvegek a vendéglátásb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őbb problémá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kiszolgálótérben tárolható bontott üvegek mennyisége, és űrmértéke (ideértve a pultok hosszának és számának kérdéskörét i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z ételkészítéssel összefüggésben a bontott termékek tárolása a termelőtérben (konyhán, cukrásztermelőb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belső, illetve külső helyszínen megtartott rendezvényről visszaérkező bontott termékek raktároz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egoldási javaslato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1 literes határ 2 literre történő emelése [jövedéki törvény 110.§ (7)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NAV tájékoztató/felhívás kiadása a vendéglátóhely konyhájában, cukrásztermelőjében tárolható bontott italokról és a pult (eladótér kiszolgálásra szolgáló része) értelmezésérő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7200" y="2923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Nemzeti turizmusfejlesztési koncepció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a29061"/>
                </a:solidFill>
                <a:latin typeface="Calibri"/>
              </a:rPr>
              <a:t>2020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turizmus szakpolitika megújítása a </a:t>
            </a: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2014-től 2020-ig tartó tervezési időszak fejlesztéseinek megalapozásához szükséges</a:t>
            </a: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, összhangban az Új Széchenyi-tervben megfogalmazott fejlesztési program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zövegdoboz 4"/>
          <p:cNvSpPr/>
          <p:nvPr/>
        </p:nvSpPr>
        <p:spPr>
          <a:xfrm>
            <a:off x="324000" y="15573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Gyógyító Magyarország 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– innovatív, kreatív és minőségi termék- és kínálatfejlesz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zövegdoboz 5"/>
          <p:cNvSpPr/>
          <p:nvPr/>
        </p:nvSpPr>
        <p:spPr>
          <a:xfrm>
            <a:off x="324000" y="2649600"/>
            <a:ext cx="8496000" cy="1099440"/>
          </a:xfrm>
          <a:prstGeom prst="rect">
            <a:avLst/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 magyar turisztikai versenyképességet javító nemzeti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üzleti környezet 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kialakítása, munkahelymegőrzés,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munkahelyterem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zövegdoboz 6"/>
          <p:cNvSpPr/>
          <p:nvPr/>
        </p:nvSpPr>
        <p:spPr>
          <a:xfrm>
            <a:off x="324000" y="37479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I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TDM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rendszerre épülő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belföldi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és nemzet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turizmus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erősítése és az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ntézményrendszer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kialakítás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zövegdoboz 7"/>
          <p:cNvSpPr/>
          <p:nvPr/>
        </p:nvSpPr>
        <p:spPr>
          <a:xfrm>
            <a:off x="324000" y="4854600"/>
            <a:ext cx="8496000" cy="764280"/>
          </a:xfrm>
          <a:prstGeom prst="rect">
            <a:avLst/>
          </a:prstGeom>
          <a:solidFill>
            <a:srgbClr val="c6d9f1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I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Nemzetközi és kelet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nyitás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, külpiaci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és </a:t>
            </a: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értékesítés-ösztönz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zövegdoboz 8"/>
          <p:cNvSpPr/>
          <p:nvPr/>
        </p:nvSpPr>
        <p:spPr>
          <a:xfrm>
            <a:off x="324000" y="5618160"/>
            <a:ext cx="8496000" cy="1099440"/>
          </a:xfrm>
          <a:prstGeom prst="rect">
            <a:avLst/>
          </a:prstGeom>
          <a:solidFill>
            <a:srgbClr val="dce6f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V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Horizontális célkitűzése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Calibri"/>
              </a:rPr>
              <a:t>(innovativitás, fenntarthatóság, társadalmi felelősségvállalá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3760" y="920520"/>
            <a:ext cx="84358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Fő cél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68280"/>
            <a:ext cx="84358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Számszerűsíthető kiemelt nemzeti célkitűzés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46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zmus nemzetgazdasági hozzájárulásának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(GNI) megduplázása 10 év alat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zmusban és a kapcsolódó területeken dolgoz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ejelentet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munkavállalók számának megkétszerez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turisztikai üzleti környezet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ersenyképességének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ekintetében Magyarország legyen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ilág első 30 országa között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WTO mutató alapján) 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agyar turizmus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pénzügyi működésének több lábra állítá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Diagram 4" descr=""/>
          <p:cNvPicPr/>
          <p:nvPr/>
        </p:nvPicPr>
        <p:blipFill>
          <a:blip r:embed="rId1"/>
          <a:stretch/>
        </p:blipFill>
        <p:spPr>
          <a:xfrm>
            <a:off x="1176480" y="1962000"/>
            <a:ext cx="7072200" cy="4713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Vendégek száma a kereskedelmi szálláshelyeken </a:t>
            </a:r>
            <a:br>
              <a:rPr sz="2800"/>
            </a:b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Kiemelt magyar turisztikai fejlesztések előkészítése és megvalósítása 2014-2020 közöt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2387520"/>
            <a:ext cx="91440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egfontosabb nemzeti turisztikai termékek és fejlesztési területek mentén minimum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6-10 kiemelt nemzeti fejlesztési program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dolgozása 2014-ig; és sikeres, fókuszált megvalósítása 2014-2020 közö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3-5 nemzetközi hírű komplex gyógyhely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8-10 regionáli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gyógyfürdő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alakítása és fejleszté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0 db kiemelt nemzetközi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projekt megvalósítás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00 db országo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elentőségű projekt kidolgozása és megvalósít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44600" indent="-177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500 db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agas hozzáadott értékű turisztikai fejlesztés kidolgozása és megvalósítá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217152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belföldi turizmus élénkítése érdekében a stabilan működő magyar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TDM rendszer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ljes kiépítése, Nemzeti TDM Szervezet felállítása – együttműködésben a kiemelt partnerekkel,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lföldi turisztikai alapmutató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költés, vendég- és vendégéjszaka szám, látogatószám) minimum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/3-dal való javítása 2020-ig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agyarországra látogató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ülföldi turisták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agyarországi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átlagos költésének megkétszerez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tartózkodási idejének másfélszeresére növelése 2025-i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68280"/>
            <a:ext cx="84358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További kiemelt célkitűzések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202680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Új piacok meghódítása és a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eleti-nyitás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redményeként a keleti országokból érkező turisták számának és a vendégéjszakák számának a megtöbbszörözé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akmai nyitás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új nemzeti turisztikai és szakmai együttműködési rendszer kialakítás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udapest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rtósan legyen tagja az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urópai TOP 10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a közép-európai TOP 3 városi desztináción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alaton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tartósan legyen tagja az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urópai TOP 5 családi üdülő desztináción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églalap 1"/>
          <p:cNvSpPr/>
          <p:nvPr/>
        </p:nvSpPr>
        <p:spPr>
          <a:xfrm>
            <a:off x="1631160" y="1268280"/>
            <a:ext cx="62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Arial"/>
              </a:rPr>
              <a:t>További kiemelt célkitűzések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3034800"/>
            <a:ext cx="7637400" cy="204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Köszönöm megtisztelő figyelmüke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Vendégéjszakák száma a kereskedelmi szálláshelyeken 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Diagram 4" descr=""/>
          <p:cNvPicPr/>
          <p:nvPr/>
        </p:nvPicPr>
        <p:blipFill>
          <a:blip r:embed="rId1"/>
          <a:stretch/>
        </p:blipFill>
        <p:spPr>
          <a:xfrm>
            <a:off x="1109520" y="1981080"/>
            <a:ext cx="6924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A kereskedelmi szálláshelyek bruttó árbevétele </a:t>
            </a:r>
            <a:br>
              <a:rPr sz="2800"/>
            </a:br>
            <a:r>
              <a:rPr b="1" lang="hu-HU" sz="2800" spc="-1" strike="noStrike">
                <a:solidFill>
                  <a:srgbClr val="a69765"/>
                </a:solidFill>
                <a:latin typeface="Calibri"/>
              </a:rPr>
              <a:t>(millió Ft) 2007-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Diagram 4" descr=""/>
          <p:cNvPicPr/>
          <p:nvPr/>
        </p:nvPicPr>
        <p:blipFill>
          <a:blip r:embed="rId1"/>
          <a:stretch/>
        </p:blipFill>
        <p:spPr>
          <a:xfrm>
            <a:off x="1255680" y="1981080"/>
            <a:ext cx="670572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547640" y="2060640"/>
          <a:ext cx="6096240" cy="4079880"/>
        </p:xfrm>
        <a:graphic>
          <a:graphicData uri="http://schemas.openxmlformats.org/drawingml/2006/table">
            <a:tbl>
              <a:tblPr/>
              <a:tblGrid>
                <a:gridCol w="720720"/>
                <a:gridCol w="2664000"/>
                <a:gridCol w="27115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s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ndégéjszaka (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émet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49 390 (+3,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z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8 980    (-1,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asz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9 225    (+17,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osz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492    (+3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esült Királys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5 309    (+10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eh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 548    (+4,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yelorszá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 667    (+12,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 260    (+0,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á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8 840    (+0,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la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7 399    (+24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0" name="Lefelé nyíl 8"/>
          <p:cNvSpPr/>
          <p:nvPr/>
        </p:nvSpPr>
        <p:spPr>
          <a:xfrm>
            <a:off x="1979640" y="4005360"/>
            <a:ext cx="71280" cy="215640"/>
          </a:xfrm>
          <a:prstGeom prst="downArrow">
            <a:avLst>
              <a:gd name="adj1" fmla="val 50000"/>
              <a:gd name="adj2" fmla="val 5005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efelé nyíl 9"/>
          <p:cNvSpPr/>
          <p:nvPr/>
        </p:nvSpPr>
        <p:spPr>
          <a:xfrm>
            <a:off x="1979640" y="5106960"/>
            <a:ext cx="71280" cy="216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efelé nyíl 10"/>
          <p:cNvSpPr/>
          <p:nvPr/>
        </p:nvSpPr>
        <p:spPr>
          <a:xfrm>
            <a:off x="1979640" y="4390920"/>
            <a:ext cx="71280" cy="216000"/>
          </a:xfrm>
          <a:prstGeom prst="downArrow">
            <a:avLst>
              <a:gd name="adj1" fmla="val 50000"/>
              <a:gd name="adj2" fmla="val 5014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elfelé nyíl 11"/>
          <p:cNvSpPr/>
          <p:nvPr/>
        </p:nvSpPr>
        <p:spPr>
          <a:xfrm>
            <a:off x="1979640" y="3284640"/>
            <a:ext cx="71280" cy="215640"/>
          </a:xfrm>
          <a:prstGeom prst="upArrow">
            <a:avLst>
              <a:gd name="adj1" fmla="val 50000"/>
              <a:gd name="adj2" fmla="val 5005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elfelé nyíl 12"/>
          <p:cNvSpPr/>
          <p:nvPr/>
        </p:nvSpPr>
        <p:spPr>
          <a:xfrm>
            <a:off x="1979640" y="3619440"/>
            <a:ext cx="71280" cy="216000"/>
          </a:xfrm>
          <a:prstGeom prst="upArrow">
            <a:avLst>
              <a:gd name="adj1" fmla="val 50000"/>
              <a:gd name="adj2" fmla="val 5014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elfelé nyíl 13"/>
          <p:cNvSpPr/>
          <p:nvPr/>
        </p:nvSpPr>
        <p:spPr>
          <a:xfrm>
            <a:off x="1979640" y="4737240"/>
            <a:ext cx="71280" cy="217440"/>
          </a:xfrm>
          <a:prstGeom prst="upArrow">
            <a:avLst>
              <a:gd name="adj1" fmla="val 50000"/>
              <a:gd name="adj2" fmla="val 5009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elfelé nyíl 15"/>
          <p:cNvSpPr/>
          <p:nvPr/>
        </p:nvSpPr>
        <p:spPr>
          <a:xfrm>
            <a:off x="1979640" y="5838840"/>
            <a:ext cx="71280" cy="216000"/>
          </a:xfrm>
          <a:prstGeom prst="upArrow">
            <a:avLst>
              <a:gd name="adj1" fmla="val 50000"/>
              <a:gd name="adj2" fmla="val 5014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Balra-jobbra nyíl 16"/>
          <p:cNvSpPr/>
          <p:nvPr/>
        </p:nvSpPr>
        <p:spPr>
          <a:xfrm>
            <a:off x="1870200" y="2590920"/>
            <a:ext cx="261720" cy="46080"/>
          </a:xfrm>
          <a:prstGeom prst="leftRightArrow">
            <a:avLst>
              <a:gd name="adj1" fmla="val 50000"/>
              <a:gd name="adj2" fmla="val 499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Balra-jobbra nyíl 17"/>
          <p:cNvSpPr/>
          <p:nvPr/>
        </p:nvSpPr>
        <p:spPr>
          <a:xfrm>
            <a:off x="1870200" y="2971800"/>
            <a:ext cx="261720" cy="46080"/>
          </a:xfrm>
          <a:prstGeom prst="leftRightArrow">
            <a:avLst>
              <a:gd name="adj1" fmla="val 50000"/>
              <a:gd name="adj2" fmla="val 499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alra-jobbra nyíl 18"/>
          <p:cNvSpPr/>
          <p:nvPr/>
        </p:nvSpPr>
        <p:spPr>
          <a:xfrm>
            <a:off x="1895400" y="5554800"/>
            <a:ext cx="262080" cy="47520"/>
          </a:xfrm>
          <a:prstGeom prst="leftRightArrow">
            <a:avLst>
              <a:gd name="adj1" fmla="val 50000"/>
              <a:gd name="adj2" fmla="val 501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125000"/>
            <a:ext cx="8435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a69765"/>
                </a:solidFill>
                <a:latin typeface="Calibri"/>
              </a:rPr>
              <a:t>A TOP 10 küldőországu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a69765"/>
                </a:solidFill>
                <a:latin typeface="Calibri"/>
              </a:rPr>
              <a:t>A SZÉP Kárty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Kép 6" descr="szep-kartya.jpg"/>
          <p:cNvPicPr/>
          <p:nvPr/>
        </p:nvPicPr>
        <p:blipFill>
          <a:blip r:embed="rId1"/>
          <a:stretch/>
        </p:blipFill>
        <p:spPr>
          <a:xfrm>
            <a:off x="-19080" y="-689040"/>
            <a:ext cx="9894960" cy="758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826920" y="-100080"/>
          <a:ext cx="8280720" cy="6391440"/>
        </p:xfrm>
        <a:graphic>
          <a:graphicData uri="http://schemas.openxmlformats.org/drawingml/2006/table">
            <a:tbl>
              <a:tblPr/>
              <a:tblGrid>
                <a:gridCol w="5124600"/>
                <a:gridCol w="3156120"/>
              </a:tblGrid>
              <a:tr h="312840">
                <a:tc gridSpan="2"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a adatok 2013. január 31-i állapot szer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fogadóhelye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erződött munkáltató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ényelt SZÉP Kártyák száma összesen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5 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ényelt társkártyák száma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adott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már leszállított)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k száma   (d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8 5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ra </a:t>
                      </a: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ltöltött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összeg összesen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634 8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áshely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109 8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églátás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539 9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idő alszámlára feltöltö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985 1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ÉP Kártyával </a:t>
                      </a: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zetett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összeg összesen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788 5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álláshely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616 3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églátás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540 3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359280" rIns="7560" tIns="75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adidő alszámláról fizetett összeg (eF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928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631 8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zövegdoboz 4"/>
          <p:cNvSpPr/>
          <p:nvPr/>
        </p:nvSpPr>
        <p:spPr>
          <a:xfrm>
            <a:off x="611280" y="148428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ÉP Kártyákra feltöltött összegek (Mrd 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zis 5"/>
          <p:cNvSpPr/>
          <p:nvPr/>
        </p:nvSpPr>
        <p:spPr>
          <a:xfrm>
            <a:off x="7740720" y="1125360"/>
            <a:ext cx="1368360" cy="64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Diagram 6" descr=""/>
          <p:cNvPicPr/>
          <p:nvPr/>
        </p:nvPicPr>
        <p:blipFill>
          <a:blip r:embed="rId1"/>
          <a:stretch/>
        </p:blipFill>
        <p:spPr>
          <a:xfrm>
            <a:off x="609480" y="1195560"/>
            <a:ext cx="821052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Szipka Viktória</cp:lastModifiedBy>
  <dcterms:modified xsi:type="dcterms:W3CDTF">2013-03-12T18:19:33Z</dcterms:modified>
  <cp:revision>83</cp:revision>
  <dc:subject/>
  <dc:title>Slide 1</dc:title>
</cp:coreProperties>
</file>