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02A-14A4-473C-A8C3-1CD4538D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D2A-DD97-4079-9D0E-D7667DB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60D-F01E-454E-A13B-9428E0EC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72C-4C54-45A5-9830-07D4636F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ECD-8103-4DE9-B402-71F87CE4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E77-F07F-40AF-929B-AA525CE2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C44-A7E8-48D5-A44E-022FE60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0FBE-DBC0-4CC6-A689-285B9DA0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5A8-6641-4218-9948-62AC51F1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D7EE0-8F25-4EE6-9FAF-367C9DAF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BECB-78BE-49F7-937F-6A3D4119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D7DA-5679-470D-B3F6-D5390D98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2BEF-4D6A-47E4-9950-A3C5D07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247F-138D-4F51-A0D0-7F6F6B10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44B5-9D63-42E0-8303-BC2D29CB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09FC-6CE6-4A19-AE44-33C9319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1779-4C5B-4F11-A8C0-73B1A29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E845-05C2-4138-839A-64C9D9E9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E08A-B4C7-45E7-BD45-71AAA462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96C-E39B-43D6-8F26-217D4CBD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2E9A-77E2-48F6-8C89-35811C56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A7D-A242-4A89-971D-1C48EE0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34E-A1F7-44C5-800B-E778436B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13E-3797-406D-AC32-4F58994A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3321-1627-420B-89B6-F45045AF4D4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5E61-788B-482A-84C6-0C0BDAE2FDDB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9728-5EA2-4AA7-A556-BE8A6B84F82E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299E-5313-493E-9601-992B5199096B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D3C-76BA-421A-A6D4-28CFE7D917DA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hu/url?sa=i&amp;rct=j&amp;q=artisjus&amp;source=images&amp;cd=&amp;cad=rja&amp;docid=__DAyqMDy69WlM&amp;tbnid=KjuHUthWwEm0dM:&amp;ved=0CAUQjRw&amp;url=http://fidelio.hu/edu_art/hirek/atadtak_az_oktatoi_artisjusdijakat&amp;ei=mfAhUaHRGKWC4gTIl4CYAQ&amp;bvm=bv.42553238,d.bGE&amp;psig=AFQjCNHwGrTlP9n_QzgQol3qTOZpzR5qjA&amp;ust=136126511747300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a69765"/>
                </a:solidFill>
                <a:latin typeface="Calibri"/>
                <a:ea typeface="Times New Roman"/>
              </a:rPr>
              <a:t> </a:t>
            </a:r>
            <a:r>
              <a:rPr b="1" lang="hu-HU" sz="3200" spc="-1" strike="noStrike">
                <a:solidFill>
                  <a:srgbClr val="a69765"/>
                </a:solidFill>
                <a:latin typeface="Calibri"/>
                <a:ea typeface="Arial"/>
              </a:rPr>
              <a:t>A hazai turizmus helyzete, aktuális kérdés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2013. március 8., Budap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Calibri"/>
              </a:rPr>
              <a:t>Dr. Horváth Viktór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Turisztikáért felelős helyettes államtitká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Nemzetgazdasági Minisztériu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zövegdoboz 4"/>
          <p:cNvSpPr/>
          <p:nvPr/>
        </p:nvSpPr>
        <p:spPr>
          <a:xfrm>
            <a:off x="611280" y="1484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ÉP Kártyákról elköltött összegek (Mrd 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llipszis 5"/>
          <p:cNvSpPr/>
          <p:nvPr/>
        </p:nvSpPr>
        <p:spPr>
          <a:xfrm>
            <a:off x="7956720" y="907920"/>
            <a:ext cx="1081080" cy="6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iagram 7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4960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zövegdoboz 2"/>
          <p:cNvSpPr/>
          <p:nvPr/>
        </p:nvSpPr>
        <p:spPr>
          <a:xfrm>
            <a:off x="539640" y="2060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Összes feltöltés: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71,7 Mrd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Chart 1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429760" cy="5334120"/>
          </a:xfrm>
          <a:prstGeom prst="rect">
            <a:avLst/>
          </a:prstGeom>
          <a:ln w="0">
            <a:noFill/>
          </a:ln>
        </p:spPr>
      </p:pic>
      <p:sp>
        <p:nvSpPr>
          <p:cNvPr id="242" name="Szövegdoboz 6"/>
          <p:cNvSpPr/>
          <p:nvPr/>
        </p:nvSpPr>
        <p:spPr>
          <a:xfrm>
            <a:off x="468360" y="220500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Összes feltöltés: 73,6 Mrd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 SZÉP Kártyával kapcsolatos főbb változások 2012. november 25-t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9528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301/2012. (X.26.) Korm. rendelet a Széchenyi Pihenő Kártya kibocsátásának és felhasználásának szabályairól szóló 55/2011. (IV.12.) Korm. Rendelet módosításár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mi változott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Kibővült a felhasználási kör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a szabadidő alszámláról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több sporttevékenység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sporthorgászat, sportpálya bérlés, sportoktatás, uszoda bérlet)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fizethet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SZÉP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Kártya birtokos halála esetén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z intézmény a hagyatéki eljárás végéig zárolja az elektronikus utalvány nyilvántartás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 tehát az utalványok nem járnak le.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kibocsátó intézmények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a hagyatéki végzésben foglaltak szerint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készpénzben kifizetik az örökösöknek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elhunyt SZÉP Kártyáján rendelkezésre álló összeg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mi változott 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SZÉP Kártya jelenlegi 1,5%-os jutalékszintjének megtartása mellett bevezettünk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gy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12 Ft-os minimum díjat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ért, hogy a jutalék legalább a kibocsátók tranzakciókkal kapcsolatos önköltségét fedez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kártyakibocsátó vállalatoknak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5 munkanapon belül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l kell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utalni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z elfogadóhelyek felé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SZÉP Kártyával fizetett összege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mi változott I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221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onkrétan meghatároztuk az MKEH által kiszabható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bírság</a:t>
            </a:r>
            <a:r>
              <a:rPr b="0" lang="hu-H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értékét arra az esetre,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ha a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zolgáltatók megsértik a rendeletben foglalta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Bírság mértéke: 50 000 Ft – 500 000 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Ismételt jogsértés esetén: max. 1 000 000 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3 éven belül visszaesők: a kártyakibocsátó intézmény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apon belül köteles felmondani vagy közös megegyez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lapján megszüntetni a szerződést és a szerződ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elbontásától számított 1 évig nem lehet új szerződést köt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 SZÉP Kártyával kapcsolatos főbb változások 2012. december 30-tó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9528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412/2012. (XII.28.) Korm. rendelet a Széchenyi Pihenő Kártya kibocsátásának és felhasználásának szabályairól szóló 55/2011. (IV.12.) Korm. Rendelet módosításár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5 hónappal meghosszabbítottuk a kártyán lévő utalványok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felhasználási határidejé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– a juttatást követő év december 31. 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HELYETT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 juttatást követő </a:t>
            </a:r>
            <a:r>
              <a:rPr b="1" lang="hu-HU" sz="2400" spc="-1" strike="noStrike" u="sng">
                <a:solidFill>
                  <a:srgbClr val="ff0000"/>
                </a:solidFill>
                <a:uFillTx/>
                <a:latin typeface="Calibri"/>
              </a:rPr>
              <a:t>második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 év május 3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lejárt utalványok ellenértéké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kibocsátók a lejáratot követő egy hónapon belül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vissza kell hogy utalják a munkáltatókn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2012. december 31-én még 75 millió Ft 2011-ben juttatott utalvány volt a számlákon, ez a forrás így az idei előszezonban hasznosulh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Nemzeti tanúsító védjegy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29061"/>
                </a:solidFill>
                <a:latin typeface="Calibri"/>
              </a:rPr>
              <a:t>A védjegy rendszer cél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2009 októbere óta megszűnt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a szálláshelyek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kötelező minősíté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A turizmusban a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minőség iránti elvárások növekedése folyamato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, a versenyben azok a szolgáltatók tudnak megmaradni akik hosszú távon egyenletes minőséget képesek kínáln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szálláshelyen (védjegy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vendéglátásban (alapanyagok, helyi termékek, hungarikumok st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okban (nemzetközi elismerések, fesztivál minősítési prog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Nemzeti tanúsító védjegy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lkalmazása nem kizárólagos, de elősegí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jó és megbízható minőségű szolgáltatók pozitív megkülönböztetését és kiemelésé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rősíti a tudatos fogyasztói (turista) magatartást, illet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egkönnyíti a tájékozott fogyasztói döntés meghozatal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292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Vendégforgalmi adatok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(KSH adatok alapján, 201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29061"/>
                </a:solidFill>
                <a:latin typeface="Calibri"/>
              </a:rPr>
              <a:t>A védjegy rendszer előny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minősítés új rendszere: a szolgáltatók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önkéntesen csatlakozhatnak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nemzeti tanúsító védjegyrendszerh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előre rögzített szakmai szempontrendszer alapján a védjegyhasználat jogszerűségét és a minősítési kritériumok fennállását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rendszeres időszaki ellenőrzés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garantál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édjegyhasználat és a védjegyhasználat jogszerűségének ellenőrzése során érvényesül a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zakszerűség, függetlenség és a pártatlanság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l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alamennyi pályázó vállalja, hogy a rögzített követelmények be nem tartása, jogszabályellenes magatartás, a szabályzatba ütköző védjegyhasználat esetén a védjegyhasználat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visszavonható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édjegyhasználatra pályázat útján jogosultságot szerzett, vagy a jogosultságot elvesztett vállalkozások neve folyamatosan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 nyilváno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ágra kerü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A szálláshelyek nemzeti tanúsító védjegy rendsz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Működő nemzeti védjegy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Falusi szálláshely (320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endégszoba/vendégház (17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emping (22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Üdülőháztelep (5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zálloda (Hotelstars) (300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nemzeti tanúsító védjegyek tulajdonosa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a Magyar Állam (joggyakorló az NGM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védjegyrendszer működtetése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a szakmai szervezetek látják el a rendszer operatív működtetését, adminisztratív feladatait (honlap, tájékoztatás, minősítési kérelmek kezelése, helyszíni ellenőrzés, st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minősítési dönté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a bíráló bizottság (NGM, szakmai szervezet képviselői) javaslata alapján a turizmusért felelős minisz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29061"/>
                </a:solidFill>
                <a:latin typeface="Calibri"/>
              </a:rPr>
              <a:t>A szolgáltatások minősítő rendszerének továbbfejleszté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640" y="25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amarosan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ővül a minősített szolgáltatások köre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ifjúsági szálláshel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fürdő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További lehetőség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panzió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ízi megállóhel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Új irány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csatlakozás az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Európai Minőségi Díj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oz, amelynek kidolgozása az Európai Bizottság kezdeményezéseként történik. Ha a nemzeti minőségi díj feltételrendszere  megfelel az Európai Minőségi Díj kritériumainak, a tagállami minőségi díjas  szolgáltatók  automatikusan elnyerik az európai minőségi díjat 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Vendéglátással kapcsolatos aktuális ügy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Artisjus-jogdíj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V13” jelölésű 2013-as tervezett díjszabás véleményezési eljárása – 2012. szeptember-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Véleményezésre jogosultak: NGM, MSZÉSZ, VIMOSZ, (MKIK), (EMM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Közös javaslat </a:t>
            </a:r>
            <a:r>
              <a:rPr b="0" lang="hu-HU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 tényleges igénybevételhez kapcsolódó, az érintettek teherbíró képességét figyelembe vevő rendszer </a:t>
            </a:r>
            <a:r>
              <a:rPr b="0" lang="hu-HU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 szállodáknál REVPAR csoport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Eredmény: a szállodákra vonatkozó díjmegállapítás átalakítá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 szállodák szobáiban történő gépzene-felhasználásra vonatkozó díjmegállapítás a KSH által közölt kategóriánkénti szobakapacitás-kihasználtsághoz igazít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Továbblépés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 munkacsoport felállítása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 2014-es ”alternatív díjszabás” kidolgoz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http://fidelio.hu/image.ashx?id=b01875ae-a2a4-4537-ae84-65adb449facb&amp;vid=c9629143-429a-4942-a5aa-93cd255b5ef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9960" y="3240"/>
            <a:ext cx="16560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9763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  <a:ea typeface="Arial"/>
              </a:rPr>
              <a:t>Bontott üvegek a vendéglátásb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őbb problémá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 kiszolgálótérben tárolható bontott üvegek mennyisége, és űrmértéke (ideértve a pultok hosszának és számának kérdéskörét i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z ételkészítéssel összefüggésben a bontott termékek tárolása a termelőtérben (konyhán, cukrásztermelőb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 belső, illetve külső helyszínen megtartott rendezvényről visszaérkező bontott termékek raktároz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egoldási javaslato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1 literes határ 2 literre történő emelése [jövedéki törvény 110.§ (7)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NAV tájékoztató/felhívás kiadása a vendéglátóhely konyhájában, cukrásztermelőjében tárolható bontott italokról és a pult (eladótér kiszolgálásra szolgáló része) értelmezésérő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292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Nemzeti turizmusfejlesztési koncepci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2020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turizmus szakpolitika megújítása a 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2014-től 2020-ig tartó tervezési időszak fejlesztéseinek megalapozásához szükséges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összhangban az Új Széchenyi-tervben megfogalmazott fejlesztési program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zövegdoboz 4"/>
          <p:cNvSpPr/>
          <p:nvPr/>
        </p:nvSpPr>
        <p:spPr>
          <a:xfrm>
            <a:off x="324000" y="1557360"/>
            <a:ext cx="8496000" cy="1099440"/>
          </a:xfrm>
          <a:prstGeom prst="rect">
            <a:avLst/>
          </a:prstGeom>
          <a:solidFill>
            <a:srgbClr val="dce6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Gyógyító Magyarország 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– innovatív, kreatív és minőségi termék- és kínálatfejlesz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zövegdoboz 5"/>
          <p:cNvSpPr/>
          <p:nvPr/>
        </p:nvSpPr>
        <p:spPr>
          <a:xfrm>
            <a:off x="324000" y="2649600"/>
            <a:ext cx="8496000" cy="1099440"/>
          </a:xfrm>
          <a:prstGeom prst="rect">
            <a:avLst/>
          </a:prstGeom>
          <a:solidFill>
            <a:srgbClr val="c6d9f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A magyar turisztikai versenyképességet javító nemzeti és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üzleti környezet 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kialakítása, munkahelymegőrzés, és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munkahelyterem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zövegdoboz 6"/>
          <p:cNvSpPr/>
          <p:nvPr/>
        </p:nvSpPr>
        <p:spPr>
          <a:xfrm>
            <a:off x="324000" y="3747960"/>
            <a:ext cx="8496000" cy="1099440"/>
          </a:xfrm>
          <a:prstGeom prst="rect">
            <a:avLst/>
          </a:prstGeom>
          <a:solidFill>
            <a:srgbClr val="dce6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TDM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rendszerre épülő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belföldi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és nemzeti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turizmus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erősítése és az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ntézményrendszer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kialakítá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zövegdoboz 7"/>
          <p:cNvSpPr/>
          <p:nvPr/>
        </p:nvSpPr>
        <p:spPr>
          <a:xfrm>
            <a:off x="324000" y="4854600"/>
            <a:ext cx="8496000" cy="764280"/>
          </a:xfrm>
          <a:prstGeom prst="rect">
            <a:avLst/>
          </a:prstGeom>
          <a:solidFill>
            <a:srgbClr val="c6d9f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Nemzetközi és keleti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nyitás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, külpiaci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és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értékesítés-ösztönz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zövegdoboz 8"/>
          <p:cNvSpPr/>
          <p:nvPr/>
        </p:nvSpPr>
        <p:spPr>
          <a:xfrm>
            <a:off x="324000" y="5618160"/>
            <a:ext cx="8496000" cy="1099440"/>
          </a:xfrm>
          <a:prstGeom prst="rect">
            <a:avLst/>
          </a:prstGeom>
          <a:solidFill>
            <a:srgbClr val="dce6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Horizontális célkitűzése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(innovativitás, fenntarthatóság, társadalmi felelősségvállalá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3760" y="920520"/>
            <a:ext cx="84358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Fő cél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68280"/>
            <a:ext cx="84358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Számszerűsíthető kiemelt nemzeti célkitűzés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46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urizmus nemzetgazdasági hozzájárulásának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(GNI) megduplázása 10 év alat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urizmusban és a kapcsolódó területeken dolgoz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bejelentet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munkavállalók számának megkétszerezés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2025-i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urisztikai üzleti környeze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ersenyképességének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ekintetében Magyarország legyen a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ilág első 30 országa között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WTO mutató alapján) 2025-i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magyar turizmus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pénzügyi működésének több lábra állí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Diagram 4" descr=""/>
          <p:cNvPicPr/>
          <p:nvPr/>
        </p:nvPicPr>
        <p:blipFill>
          <a:blip r:embed="rId1"/>
          <a:stretch/>
        </p:blipFill>
        <p:spPr>
          <a:xfrm>
            <a:off x="1176480" y="1962000"/>
            <a:ext cx="7072200" cy="4713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Vendégek száma a kereskedelmi szálláshelyeken </a:t>
            </a:r>
            <a:br>
              <a:rPr sz="2800"/>
            </a:b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2007-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Kiemelt magyar turisztikai fejlesztések előkészítése és megvalósítása 2014-2020 közö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2387520"/>
            <a:ext cx="91440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egfontosabb nemzeti turisztikai termékek és fejlesztési területek mentén minimum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6-10 kiemelt nemzeti fejlesztési program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dolgozása 2014-ig; és sikeres, fókuszált megvalósítása 2014-2020 közö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3-5 nemzetközi hírű komplex gyógyhely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8-10 regionális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elentőségű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gyógyfürdő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alakítása és fejleszté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10 db kiemelt nemzetközi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elentőségű projekt megvalósítás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100 db országos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elentőségű projekt kidolgozása és megvalósítás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500 db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agas hozzáadott értékű turisztikai fejlesztés kidolgozása és megvalósítá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217152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belföldi turizmus élénkítése érdekében a stabilan működő magyar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TDM rendszer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eljes kiépítése, Nemzeti TDM Szervezet felállítása – együttműködésben a kiemelt partnerekkel, a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lföldi turisztikai alapmutatók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költés, vendég- és vendégéjszaka szám, látogatószám) minimum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1/3-dal való javítása 2020-ig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Magyarországra látogató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ülföldi turisták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agyarországi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átlagos költésének megkétszerezés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és tartózkodási idejének másfélszeresére növelése 2025-i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68280"/>
            <a:ext cx="84358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További kiemelt célkitűzések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202680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Új piacok meghódítása és a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eleti-nyitás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redményeként a keleti országokból érkező turisták számának és a vendégéjszakák számának a megtöbbszörözé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zakmai nyitás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új nemzeti turisztikai és szakmai együttműködési rendszer kialakítás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udapes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artósan legyen tagja az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urópai TOP 10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és a közép-európai TOP 3 városi desztináción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alaton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artósan legyen tagja az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urópai TOP 5 családi üdülő desztináción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églalap 1"/>
          <p:cNvSpPr/>
          <p:nvPr/>
        </p:nvSpPr>
        <p:spPr>
          <a:xfrm>
            <a:off x="1631160" y="126828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Arial"/>
              </a:rPr>
              <a:t>További kiemelt célkitűzések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000" y="3034800"/>
            <a:ext cx="7637400" cy="20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Köszönöm megtisztelő figyelmüke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Vendégéjszakák száma a kereskedelmi szálláshelyeken 2007-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Diagram 4" descr=""/>
          <p:cNvPicPr/>
          <p:nvPr/>
        </p:nvPicPr>
        <p:blipFill>
          <a:blip r:embed="rId1"/>
          <a:stretch/>
        </p:blipFill>
        <p:spPr>
          <a:xfrm>
            <a:off x="1109520" y="1981080"/>
            <a:ext cx="69249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A kereskedelmi szálláshelyek bruttó árbevétele </a:t>
            </a:r>
            <a:br>
              <a:rPr sz="2800"/>
            </a:b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(millió Ft) 2007-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Diagram 4" descr=""/>
          <p:cNvPicPr/>
          <p:nvPr/>
        </p:nvPicPr>
        <p:blipFill>
          <a:blip r:embed="rId1"/>
          <a:stretch/>
        </p:blipFill>
        <p:spPr>
          <a:xfrm>
            <a:off x="1255680" y="1981080"/>
            <a:ext cx="67057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547640" y="2060640"/>
          <a:ext cx="6096240" cy="4079880"/>
        </p:xfrm>
        <a:graphic>
          <a:graphicData uri="http://schemas.openxmlformats.org/drawingml/2006/table">
            <a:tbl>
              <a:tblPr/>
              <a:tblGrid>
                <a:gridCol w="720720"/>
                <a:gridCol w="2664000"/>
                <a:gridCol w="2711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s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dégéjszaka (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émet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49 390 (+3,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z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8 980    (-1,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asz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 225    (+17,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osz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492    (+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esült Királys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5 309    (+10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eh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5 548    (+4,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yel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 667    (+12,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 260    (+0,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á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 840    (+0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la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7 399    (+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0" name="Lefelé nyíl 8"/>
          <p:cNvSpPr/>
          <p:nvPr/>
        </p:nvSpPr>
        <p:spPr>
          <a:xfrm>
            <a:off x="1979640" y="4005360"/>
            <a:ext cx="71280" cy="2156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efelé nyíl 9"/>
          <p:cNvSpPr/>
          <p:nvPr/>
        </p:nvSpPr>
        <p:spPr>
          <a:xfrm>
            <a:off x="1979640" y="5106960"/>
            <a:ext cx="71280" cy="216000"/>
          </a:xfrm>
          <a:prstGeom prst="downArrow">
            <a:avLst>
              <a:gd name="adj1" fmla="val 50000"/>
              <a:gd name="adj2" fmla="val 5014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efelé nyíl 10"/>
          <p:cNvSpPr/>
          <p:nvPr/>
        </p:nvSpPr>
        <p:spPr>
          <a:xfrm>
            <a:off x="1979640" y="4390920"/>
            <a:ext cx="71280" cy="216000"/>
          </a:xfrm>
          <a:prstGeom prst="downArrow">
            <a:avLst>
              <a:gd name="adj1" fmla="val 50000"/>
              <a:gd name="adj2" fmla="val 5014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elfelé nyíl 11"/>
          <p:cNvSpPr/>
          <p:nvPr/>
        </p:nvSpPr>
        <p:spPr>
          <a:xfrm>
            <a:off x="1979640" y="3284640"/>
            <a:ext cx="71280" cy="215640"/>
          </a:xfrm>
          <a:prstGeom prst="upArrow">
            <a:avLst>
              <a:gd name="adj1" fmla="val 50000"/>
              <a:gd name="adj2" fmla="val 5005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elfelé nyíl 12"/>
          <p:cNvSpPr/>
          <p:nvPr/>
        </p:nvSpPr>
        <p:spPr>
          <a:xfrm>
            <a:off x="1979640" y="3619440"/>
            <a:ext cx="71280" cy="216000"/>
          </a:xfrm>
          <a:prstGeom prst="upArrow">
            <a:avLst>
              <a:gd name="adj1" fmla="val 50000"/>
              <a:gd name="adj2" fmla="val 5014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elfelé nyíl 13"/>
          <p:cNvSpPr/>
          <p:nvPr/>
        </p:nvSpPr>
        <p:spPr>
          <a:xfrm>
            <a:off x="1979640" y="4737240"/>
            <a:ext cx="71280" cy="217440"/>
          </a:xfrm>
          <a:prstGeom prst="upArrow">
            <a:avLst>
              <a:gd name="adj1" fmla="val 50000"/>
              <a:gd name="adj2" fmla="val 5009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elfelé nyíl 15"/>
          <p:cNvSpPr/>
          <p:nvPr/>
        </p:nvSpPr>
        <p:spPr>
          <a:xfrm>
            <a:off x="1979640" y="5838840"/>
            <a:ext cx="71280" cy="216000"/>
          </a:xfrm>
          <a:prstGeom prst="upArrow">
            <a:avLst>
              <a:gd name="adj1" fmla="val 50000"/>
              <a:gd name="adj2" fmla="val 5014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Balra-jobbra nyíl 16"/>
          <p:cNvSpPr/>
          <p:nvPr/>
        </p:nvSpPr>
        <p:spPr>
          <a:xfrm>
            <a:off x="1870200" y="2590920"/>
            <a:ext cx="261720" cy="46080"/>
          </a:xfrm>
          <a:prstGeom prst="leftRightArrow">
            <a:avLst>
              <a:gd name="adj1" fmla="val 50000"/>
              <a:gd name="adj2" fmla="val 499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Balra-jobbra nyíl 17"/>
          <p:cNvSpPr/>
          <p:nvPr/>
        </p:nvSpPr>
        <p:spPr>
          <a:xfrm>
            <a:off x="1870200" y="2971800"/>
            <a:ext cx="261720" cy="46080"/>
          </a:xfrm>
          <a:prstGeom prst="leftRightArrow">
            <a:avLst>
              <a:gd name="adj1" fmla="val 50000"/>
              <a:gd name="adj2" fmla="val 499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alra-jobbra nyíl 18"/>
          <p:cNvSpPr/>
          <p:nvPr/>
        </p:nvSpPr>
        <p:spPr>
          <a:xfrm>
            <a:off x="1895400" y="5554800"/>
            <a:ext cx="262080" cy="47520"/>
          </a:xfrm>
          <a:prstGeom prst="leftRightArrow">
            <a:avLst>
              <a:gd name="adj1" fmla="val 50000"/>
              <a:gd name="adj2" fmla="val 501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A TOP 10 küldőországu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A SZÉP Kárty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Kép 6" descr="szep-kartya.jpg"/>
          <p:cNvPicPr/>
          <p:nvPr/>
        </p:nvPicPr>
        <p:blipFill>
          <a:blip r:embed="rId1"/>
          <a:stretch/>
        </p:blipFill>
        <p:spPr>
          <a:xfrm>
            <a:off x="-19080" y="-689040"/>
            <a:ext cx="9894960" cy="758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826920" y="-100080"/>
          <a:ext cx="8280720" cy="6391440"/>
        </p:xfrm>
        <a:graphic>
          <a:graphicData uri="http://schemas.openxmlformats.org/drawingml/2006/table">
            <a:tbl>
              <a:tblPr/>
              <a:tblGrid>
                <a:gridCol w="5124600"/>
                <a:gridCol w="3156120"/>
              </a:tblGrid>
              <a:tr h="312840"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a adatok 2013. január 31-i állapot szer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fogadóhelyek száma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8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erződött munkáltatók száma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ényelt SZÉP Kártyák száma összesen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5 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ényelt társkártyák száma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adott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már leszállított)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ák száma  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8 5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ára </a:t>
                      </a: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ltöltött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összeg összesen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 634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álláshely alszámlára feltöltö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109 8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déglátás alszámlára feltöltö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539 9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idő alszámlára feltöltö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985 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ával </a:t>
                      </a: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zetett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összeg összesen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88 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álláshely alszámláról fizete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616 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déglátás alszámláról fizete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540 3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idő alszámláról fizete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31 8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zövegdoboz 4"/>
          <p:cNvSpPr/>
          <p:nvPr/>
        </p:nvSpPr>
        <p:spPr>
          <a:xfrm>
            <a:off x="611280" y="1484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ÉP Kártyákra feltöltött összegek (Mrd 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zis 5"/>
          <p:cNvSpPr/>
          <p:nvPr/>
        </p:nvSpPr>
        <p:spPr>
          <a:xfrm>
            <a:off x="7740720" y="1125360"/>
            <a:ext cx="1368360" cy="6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Diagram 6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2105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Szipka Viktória</cp:lastModifiedBy>
  <dcterms:modified xsi:type="dcterms:W3CDTF">2013-03-12T18:19:33Z</dcterms:modified>
  <cp:revision>83</cp:revision>
  <dc:subject/>
  <dc:title>Slide 1</dc:title>
</cp:coreProperties>
</file>